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0AC99-DE7D-4819-8540-CBB26AAABD5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8294B8-D572-4F64-8B64-F1AD118B8094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501920"/>
            <a:ext cx="54864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6600"/>
                </a:solidFill>
                <a:latin typeface="Times New Roman"/>
              </a:rPr>
              <a:t>Идея простая: в универсуме деятельности выделить те виды деятельности, которыми должен овладеть выпускник школы, и построить такую структуру урока и дидактические условия его организации, которая бы системно тренировала способности детей к осуществлению этих видов деятельности.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6600"/>
                </a:solidFill>
                <a:latin typeface="Times New Roman"/>
              </a:rPr>
              <a:t>Любая система деятельности, в том числе и система образования, функционирует в соответствии с целями, которые реально контролируются в данной системе. С этой точки зрения, исторический процесс развития школы можно наглядно представить в виде следующей схемы </a:t>
            </a:r>
            <a:r>
              <a:rPr b="0" lang="ru-RU" sz="13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6600"/>
                </a:solidFill>
                <a:latin typeface="Times New Roman"/>
              </a:rPr>
              <a:t>Многие противоречия современной системы образования, в том числе и указанные выше, связаны с тем, что мы находимся на этапе перехода от школы объяснения, или, как теперь ее принято называть, “традиционной” школы, к школе развивающего обучения: по целям образования, которые сегодня научно обоснованы, социально значимы и нормативно закреплены Законом “Об образовании”,  каждая школа должна стать школой развивающего обучения. А по реальной практике работы школ, системе подготовки и переподготовки кадров, средствам контроля результатов обучения мы в школе “знаниевого” типа.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6600"/>
                </a:solidFill>
                <a:latin typeface="Times New Roman"/>
              </a:rPr>
              <a:t>Переход к новой парадигме образования не может быть реализован без четкого и внятного ответа на вопрос “Как обучать?’. Учитель  должен получить конкретный и понятийно обоснованный алгоритм своей деятельности по подготовке и проведению уроков, который, с одной стороны, не разрушал бы его личный практический опыт, вписывался в уже имеющиеся у него представления о том, что хорошо для детей, что помогает ребенку стать успешным и счастливым в будущей его взрослой жизни. С другой стороны, этот инструмент должен включить в себя имеющиеся в педагогике и психологии научные звания об общих закономерностях эффективного развития детей, которые сегодня напоминают рассыпанную мозаику.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36DC-9079-4CA9-A541-9DC6DE0A5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20E3-ED4E-4827-AC5A-6FCF70E4F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E820-5254-4912-8E86-CD750148D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F2D5-08A2-4D76-9AD2-A9CDE9166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D46D2-D57A-494E-A7C4-5B482DE893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6EB29-874E-4DED-81DB-01729E9436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0F832-9CB9-4C8C-9378-D6630E0393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4D904-37F3-4B19-BC35-828E40FD75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66C1-314A-403B-A0FC-9AB83CC591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ACC19-F40E-487D-929F-F7B75665A1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7EC9-E313-485F-8154-E3740EAD85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F3F5-91A3-4FA1-8C9F-554F5E5FF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61B94-E6F7-4771-A4F9-33B2A50AD8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56F2-0C40-4381-8EAE-EC83E7AA90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8E2D-B784-4F19-8680-3039CE0519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3AB7E-2BE2-49C3-92CE-3F14959B2D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FB08-ED96-452B-889F-9255F5DDD0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4C2B-C402-4CC0-BB69-ADCD7EAD0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43CF-541C-460E-9842-436807058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13E4-ABAB-484D-8B46-4740A9EC2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2B81-46B2-46FF-90AE-FA9233CAF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6E3A-7862-4D75-9D62-CFDBCA0EE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FE93-8F7B-4E4B-BF30-ECD5E7E20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62F7-A5D1-4A63-A337-AC20B9CFB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CCD5E5-36FB-45B8-8E71-89163970729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  <a:ea typeface="Segoe UI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24F80-65A9-47B6-A897-DDB7F1F6852D}" type="slidenum">
              <a:rPr b="0" lang="ru-RU" sz="1400" spc="-1" strike="noStrike">
                <a:solidFill>
                  <a:srgbClr val="578963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7640" y="2592360"/>
            <a:ext cx="80280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Times New Roman"/>
              </a:rPr>
              <a:t>Типология учебных занятий на основе системно — деятельного подхода</a:t>
            </a:r>
            <a:br>
              <a:rPr sz="4400"/>
            </a:br>
            <a:br>
              <a:rPr sz="4800"/>
            </a:br>
            <a:br>
              <a:rPr sz="40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02640" y="-2454120"/>
            <a:ext cx="82440" cy="137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32000" y="5472000"/>
            <a:ext cx="64040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4c2b"/>
                </a:solidFill>
                <a:latin typeface="Times New Roman"/>
              </a:rPr>
              <a:t>И.В. Раздымахо, заместитель директора по НМР </a:t>
            </a:r>
            <a:br>
              <a:rPr sz="2200"/>
            </a:br>
            <a:r>
              <a:rPr b="1" lang="ru-RU" sz="2200" spc="-1" strike="noStrike">
                <a:solidFill>
                  <a:srgbClr val="004c2b"/>
                </a:solidFill>
                <a:latin typeface="Times New Roman"/>
              </a:rPr>
              <a:t>МКОУ ДО ЦДТ МО Павловский район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4c2b"/>
                </a:solidFill>
                <a:latin typeface="Times New Roman"/>
              </a:rPr>
              <a:t>Структура занятия </a:t>
            </a:r>
            <a:br>
              <a:rPr sz="4000"/>
            </a:br>
            <a:r>
              <a:rPr b="1" lang="ru-RU" sz="4000" spc="-1" strike="noStrike">
                <a:solidFill>
                  <a:srgbClr val="004c2b"/>
                </a:solidFill>
                <a:latin typeface="Times New Roman"/>
              </a:rPr>
              <a:t>с элементом исследования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1. Определение объекта исследовани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2. Разработка плана исследовани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3. Непосредственно исследование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4. Оформление и представление конечного результат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c2b"/>
                </a:solidFill>
                <a:latin typeface="Times New Roman"/>
              </a:rPr>
              <a:t>Технология деятельностного </a:t>
            </a:r>
            <a:br>
              <a:rPr sz="3600"/>
            </a:br>
            <a:r>
              <a:rPr b="1" lang="ru-RU" sz="3600" spc="-1" strike="noStrike">
                <a:solidFill>
                  <a:srgbClr val="004c2b"/>
                </a:solidFill>
                <a:latin typeface="Times New Roman"/>
              </a:rPr>
              <a:t>метода обучения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1. Мотивация (самоопределение) к деятельности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2. Актуализация знаний и фиксация индивидуального затруднения в пробном действии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3. Выявление места и причины затруднения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4. Построение проекта выхода из затруднения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5. Реализация построенного проекта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6. Первичное закрепление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7. Самостоятельная работа с самопроверкой по эталону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8. Включение в систему знаний и повторение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9. Рефлексия учебной деятельности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4360" y="476280"/>
            <a:ext cx="7772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Ожидаемые результаты освоения программы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628640"/>
            <a:ext cx="77724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333333"/>
                </a:solidFill>
                <a:latin typeface="Times New Roman"/>
              </a:rPr>
              <a:t>личностные результаты</a:t>
            </a:r>
            <a:r>
              <a:rPr b="0" i="1" lang="ru-RU" sz="3200" spc="-1" strike="noStrike">
                <a:solidFill>
                  <a:srgbClr val="333333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формирование у детей нравственных чувств, самооценки, мотивации к обучению, творческому труду, бережному отношению к материальным и духовным ценностям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Ожидаемые результаты освоения программы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Times New Roman"/>
              </a:rPr>
              <a:t>метапредметные результаты: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регулятивные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- умение ставить учебные задачи, планировать свое действие в соответствии с поставленной задачей и условиями ее реализации, осуществлять итоговый и пошаговый контроль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Ожидаемые результаты освоения программы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Times New Roman"/>
              </a:rPr>
              <a:t>метапредметные результаты: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познавательные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– формирование навыка решения творческих задач, навыка поиска, анализа и интерпретации информации; осуществлять поиск необходимой информации для выполнения заданий в учебной литературе, интернет-ресурса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Ожидаемые результаты освоения программы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33"/>
                </a:solidFill>
                <a:latin typeface="Times New Roman"/>
              </a:rPr>
              <a:t>метапредметные результаты: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коммуникативные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- умение выполнять различные роли в группе (лидера, исполнителя, критика); формулировать собственное мнение и позицию; договариваться и приходить к общему решению в совместной деятельности, в том числе в ситуации столкновения интересов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Уровни результатов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1 уровень результатов -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иобретение ребенком социального знания об общественных нормах, об устройстве общества, о социально одобряемых и неодобряемых формах поведения в обществе и т.д. (с педагогом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2 уровень результатов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- получение ребенком опыта переживания и позитивного отношения к базовым ценностям общества (с детским коллективом)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3 уровень результатов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получение ребенком опыта самостоятельного общественного действия (с социальными субъектами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55640" y="1413000"/>
            <a:ext cx="770112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Успешность выпускника зависит от умения добывать информацию, работать с ней, регулирования отношений с социумом, ощущения себя гражданином нашего государства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476280"/>
            <a:ext cx="82803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Чем проповедь выслушивать, мне лучше бы взглянуть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И лучше проводить меня, чем указать мне путь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Глаза умнее слуха —поймут все без труда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Слова порой запутаны, пример же —никогда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Тот лучший проповедник, кто веру в жизнь провел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Добро увидеть в действии —вот лучшая из школ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И если все мне рассказать, я выучу урок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Но мне ясней движенье рук, чем быстрых слов поток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Должно быть можно верить и умным словесам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Но я уж лучше погляжу, что делаешь ты сам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Вдруг я неправильно пойму прекрасный твой совет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Зато пойму как ты живешь: по правде или нет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333333"/>
                </a:solidFill>
                <a:latin typeface="Times New Roman"/>
              </a:rPr>
              <a:t>Вечная детская мудрость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0" y="1849320"/>
            <a:ext cx="914400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cbe0f9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"/>
              </a:rPr>
              <a:t>Основа обучения в соответствии с ФГОС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8920" indent="-3574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358920"/>
                <a:tab algn="l" pos="1273320"/>
                <a:tab algn="l" pos="2187720"/>
                <a:tab algn="l" pos="3102120"/>
                <a:tab algn="l" pos="4016520"/>
                <a:tab algn="l" pos="4930920"/>
                <a:tab algn="l" pos="5845320"/>
                <a:tab algn="l" pos="6759720"/>
                <a:tab algn="l" pos="7674120"/>
                <a:tab algn="l" pos="8588520"/>
                <a:tab algn="l" pos="9502920"/>
                <a:tab algn="l" pos="10417320"/>
                <a:tab algn="l" pos="1078236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Системно - деятельностный</a:t>
            </a:r>
            <a:r>
              <a:rPr b="1" lang="ru-RU" sz="4000" spc="-1" strike="noStrike">
                <a:solidFill>
                  <a:srgbClr val="bdd7e5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подход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221000"/>
            <a:ext cx="9144000" cy="2448000"/>
          </a:xfrm>
          <a:prstGeom prst="rect">
            <a:avLst/>
          </a:prstGeom>
          <a:solidFill>
            <a:srgbClr val="cbe0f9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"/>
              </a:rPr>
              <a:t>Результат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"/>
              </a:rPr>
              <a:t>развитие личности ребёнка на основе учебной деятельности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457200"/>
            <a:ext cx="77724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4c2b"/>
                </a:solidFill>
                <a:latin typeface="Times New Roman"/>
              </a:rPr>
              <a:t>Базовые компетентности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341360"/>
            <a:ext cx="8640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информационные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(умение искать, анализировать, преобразовывать, применять информацию для решения проблем);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коммуникативные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(умение эффективно сотрудничать с другими людьми);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амоорганизация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(умение ставить цели, планировать, ответственно относиться к здоровью, полноценно использовать личностные ресурсы);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амообразование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(готовность конструировать и осуществлять собственную образовательную траекторию на протяжении всей жизни, обеспечивая успешность и конкурентоспособность)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5800" y="457200"/>
          <a:ext cx="7773480" cy="5760720"/>
        </p:xfrm>
        <a:graphic>
          <a:graphicData uri="http://schemas.openxmlformats.org/drawingml/2006/table">
            <a:tbl>
              <a:tblPr/>
              <a:tblGrid>
                <a:gridCol w="3422880"/>
                <a:gridCol w="4350600"/>
              </a:tblGrid>
              <a:tr h="703440"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ЫЙ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-ДЕЯТЕЛЬНОСТНЫЙ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 gridSpan="2"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обучения: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знаний, умений, навыков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аждого ребёнк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2"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: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840"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епродуктивные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делай как я)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ктивное усвоение знаний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делайте, я с вами)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gridSpan="2"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пособы усвоения материала: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учивание, запомина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мостоятельное получение знаний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2"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озиция педагога: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120"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пози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онсультант, т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gridSpan="2"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озиция ученика: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ушный исполнител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ктивный деятел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457200"/>
            <a:ext cx="7772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Содержание программы дополнительного образовани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рассчитано в одинаковой мере и на сильного ученика, и на слабого, то есть дифференцированно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риентировано на развитие личности ребенка и носит деятельностный характер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направлено на духовно-нравственное воспитание и обеспечение социализации учащихся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457200"/>
            <a:ext cx="77724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Times New Roman"/>
              </a:rPr>
              <a:t>Задачи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341360"/>
            <a:ext cx="7989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Формирование социально-необходимых знаний и навыков учащихся: развитие умений самостоятельно строить свою жизнь, адаптироваться к социальным условиям, быть активной личностью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Развитие познавательного интереса у детей, творческих способностей, самостоятельности учащихся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Формирование нравственных чувств учащихся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457200"/>
            <a:ext cx="777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Структура занятия </a:t>
            </a: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с созданием проблемной ситуации</a:t>
            </a: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628640"/>
            <a:ext cx="79898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1.Создание проблемной ситуации педагогом, формулирование проблемы обучающимис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2.Актулизация обучающимися своих знани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3.Поиск решения проблемы обучающимис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4.Выражение решени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5.Применение знаний обучающимис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2:25:31Z</dcterms:created>
  <dc:creator>Анастасия</dc:creator>
  <dc:description/>
  <dc:language>en-US</dc:language>
  <cp:lastModifiedBy/>
  <dcterms:modified xsi:type="dcterms:W3CDTF">2019-12-03T06:53:21Z</dcterms:modified>
  <cp:revision>75</cp:revision>
  <dc:subject/>
  <dc:title>Системно - деятельностный подход в дополнительном образовании</dc:title>
</cp:coreProperties>
</file>